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BA6-6572-40DC-8610-3A73D0AD6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A99-617F-446C-B097-6F6D05B4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A745-0567-436F-80D2-D7BC120B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C07-F037-4AFD-AF62-A62B2B50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E2A-0E26-40BF-94E8-8B3E6A14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5B17-F062-41F8-BE39-16C186EE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AC29-9BAB-4927-8329-A5C0B265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E63-3A47-46B7-8BC7-E4EA05C4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503C-E8CE-4E78-AA0C-6EC806B9E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FA2-3AED-42C8-9BF8-C7D796A6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2EBD-EC52-4EB1-B2D6-D8ABC4AA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56E-7948-475A-9777-E1A45C4A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436-A0B5-41FD-95EE-78BDA9D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5CC-A741-43CC-A820-0A84A02A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888-9C40-44AE-9FCB-EE253E57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80E-E4DD-48A1-ABB5-8E5BEBB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F33-940C-4761-9B63-EB2C1E6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EEE-C896-4BDC-90A8-DA5FDFB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CE6-DF23-4A0A-B18E-439E7E3A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B94-A668-44C9-AF45-8A0E898B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230-68F1-4444-82EA-569575B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30F-6DFA-41E5-92A1-C7A10D6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D91-2E1C-476A-85DD-1FCE747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0047-A355-4B3F-B434-BB166FAA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rg-630-meristem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g2_large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; we focus on the eudicots (a group of dic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eeds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518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epidermis-and-periderm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10-24-vascular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Xylem and Phloem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Xylem and Phloem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ground cells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6-11-15T16:15:07Z</dcterms:modified>
  <cp:revision>50</cp:revision>
  <dc:subject/>
  <dc:title>PowerPoint Presentation</dc:title>
</cp:coreProperties>
</file>